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BBA-1E5C-4DF5-83BB-490F65EF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29E-1F46-4211-A738-89E630AD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411-3267-43EC-9003-4C00AB58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039-E72B-4D64-996C-9267F123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D42A-A6FD-4D16-8513-405E25D3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61EC-F7CA-46F5-BE8D-4169B7AB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1862-BDA8-4284-8370-9202E66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07F7-B585-427B-A62A-61DEA01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7B2-8260-4621-B703-6260D494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588F-0175-4E09-BF7D-2D637BF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A9E-9678-438A-BC32-F5AC9A5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8E8-20D0-4494-AFD4-C3EA43CD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C9A-0AEC-43D6-8449-6486AB8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26D-8515-4D45-8057-BBFCE38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ED50-EA24-490D-AE66-9445C0B7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E79-1737-4F23-A5D5-09E1BC82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1C2B-A96D-4C8E-AFA9-C2DCC502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0EA-7A7A-41F6-94BA-B87CD85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28D-E127-47C5-AA3E-ACA4A150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F85-93CF-408A-8E8B-F75FD5E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4C0-9BF7-4E96-A950-EDB61FEF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509-28B3-4D78-B86D-98174D2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B58-61A1-4B0B-9960-9002580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81E-331B-4B97-9759-3000BAF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975-D349-4AFA-ACDC-39CF2D4E927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CFD2-31EC-43F5-99E8-CD6A7C19E18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3. Opis projektu wraz  </a:t>
            </a: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 uzasadnieni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1 Miejsce realizacji projektu</a:t>
            </a:r>
            <a:r>
              <a:rPr b="0" lang="en-GB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1 Województwo – Małopol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2 Pow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3 G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4 Miejscow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5 Projekt realizowany poza granicami kr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bór z rozwijanej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2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Rodzaj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rozwijanej listy typu projektu zgodnie z list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widzian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Uszczegółowieniu MRPO dla danego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, je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 projekt nie wpisuje s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kładowe rodzaje projektów wskazane w Uszczegółowieniu MRPO, Beneficjent ma możliw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ania dodatkowego rodzaju projektu, który musi by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ójny z celami danego działa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 wpisania dodatkowego rodzaju projektu Beneficjent zobow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ny jest do przedstawienia stosownego uzasadnienia w odniesieniu do zgodn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projektu z celami danego działania programu,  które b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e poddane weryfikacji na etapie oceny formalnej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3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Tło i uzasadnienie koniecznośc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u istniejącego (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mocą danych liczbowych), z którego wynika potrzeba zareagowania na problem, bądź 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nięcia skutków zaistniałych problem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punkcie tym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wykazać 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godność zał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ń projektu ze Strategią Rozwoju Województwa na lata 2007-2013 ora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 innymi, właściwymi ze względu na zakres projektu strategiami lokalnymi lub sektorow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. 4 tyś znaków ze spacj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4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Opis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 będzie przedmio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, przedsta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e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ział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dejm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y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rojekcie, produk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jektu (prz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aniu danych liczbowyc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 musi jednoznacznie identyfikować przedmio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 i jasno określać jego zakres rzecz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.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5 Informacja nt. stanu przygotowania projektu do realizacj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stanu zaawansowania prac nad projektem. Należy odznaczyć właściwą opc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1 Dla projektów wymagających pozwolenia na budowę / zgłoszenia robót oraz dla projektów typu „zaprojektuj i wybudu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2 Dla projektów dotyczących dost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3 Dla projektów nieinwestycy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6 Inne podmioty zaangażowane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w realizację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realizacji projektu w formule partnerstwa należy wymienić nazwy instytucji uczestniczących w realizacji zadania wraz z krótkim opisem charakteru ich zaangaż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związków i porozumień zawieranych pomiędzy jednostkami samorządu terytorialnego należy wskazać podmioty zaangażowane, typ partnerstwa oraz krótko opisać charakter ich zaangażow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7 Cele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długofalowego oddziaływania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azanie zgodności celów projektu z „Celami działania” opisanymi dla konkretnego działania w Uszczegółowieniu M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chowanie spójności z punktem 5.2 – Wskaźniki rezultatu realizacji projektu,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trycą logicz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4. Okres realizacji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1 Planowany termin rozpoczęcia projektu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2 Planowany termin zakończenia rzeczowego i finansowego realizacji projektu 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3 Uzasadnienie w przypadku przekroczenia 24 miesięcznego okresu (max. do 36 miesięcy), np. względy techniczne lub technologiczne, które uniemożliwiają realizację projektu w czasie krótszym niż 24 miesią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5. Wskaźnik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1 Wskaźniki produk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pośredni, materialny efekt realizacji przedsięwzięcia mierzony konkretnymi wielkościami, np. 4 km zmodernizowanej drogi, 1 wybudowany obiekt sportow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2 Wskaźniki rezultat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wpływ zrealizowanego przedsięwzięcia na otoczenie społeczno – ekonomiczne uzyskany bezpośrednio po zakończeniu realizacji projektu, np. skrócenie czasu przejazdu, liczba użytkowni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6. Planowane wydatki projektu</a:t>
            </a: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  (liczbowo i słownie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1 Całkowita wartość projektu (brutto) – suma kosztów kwalifikowanych i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2 Całkowita wartość kosztów kwalifikowa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przygotowawcze (np. dokumentacja techniczna, przygotowanie postępowania w zakresie zamówienia publicznego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inwestycyjne (roboty budowlane, montażowe, zakup sprzętu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ozostałe koszty (np. promoc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szkoleniowe w ramach cross- financ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3 Całkowita wartość kosztów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7. Źródła finansowania projektu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(koszty kwalifikowane, zob. punkt 6.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 Wnioskowana kwota dofinansowan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EFRR w ujęciu kwotowym i procent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 Wkład krajowy to suma środ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1 Wkład własny beneficj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2 Inne źródła dofinans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 Opis źródeł pokrycia krajowego wkładu do projektu (o których mowa w punkcie 7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8. Pomoc publiczna uzyskana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i planowana do uzyskani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kazanie czy na realizację przedmiot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u uzyskał do tej pory wsparcie w formie pomocy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9. Trwałość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Sposób wykorzystania i finansowania projektu po zakończeniu jeg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osób wykorzystania i finansowania projektu po zakończeniu jego realiz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aka jest zdolność instytucjonalna Beneficjenta do realizacji projektu (jakie jest jego doświad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ruktura organizacyjna gwarantująca prawidłowe utrzymanie produktów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Czy przewidywane są dochody w trakcie realizacji projektu i/lub po jego zakończeniu (TAK/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0. Dodatkowe informacje wymagane regulaminem konkurs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przeznaczony jest na dodatkowe informacje wymagane regulaminem konkursu dla poszczególnych Działań M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1. Załącznik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służy identyfikacji załączników dostarczanych jako uzupełnienie informacji zawartych w karcie lub też wymaganych zapisami programu operacyjnego i/lub regulaminem konkur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leży wybrać z listy rozwijanej odpowiednie załączniki dołączone do karty projekt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0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11" name=""/>
            <p:cNvCxnSpPr>
              <a:stCxn id="208" idx="2"/>
              <a:endCxn id="207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4T12:42:44Z</dcterms:modified>
  <cp:revision>31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4621599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